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9.wmf" ContentType="image/x-wmf"/>
  <Override PartName="/ppt/media/image7.gif" ContentType="image/gif"/>
  <Override PartName="/ppt/media/image18.wmf" ContentType="image/x-wmf"/>
  <Override PartName="/ppt/media/image1.wmf" ContentType="image/x-wmf"/>
  <Override PartName="/ppt/media/image2.gif" ContentType="image/gif"/>
  <Override PartName="/ppt/media/image10.wmf" ContentType="image/x-wmf"/>
  <Override PartName="/ppt/media/image14.wmf" ContentType="image/x-wmf"/>
  <Override PartName="/ppt/media/image3.gif" ContentType="image/gif"/>
  <Override PartName="/ppt/media/image11.wmf" ContentType="image/x-wmf"/>
  <Override PartName="/ppt/media/image15.wmf" ContentType="image/x-wmf"/>
  <Override PartName="/ppt/media/image4.gif" ContentType="image/gif"/>
  <Override PartName="/ppt/media/image12.wmf" ContentType="image/x-wmf"/>
  <Override PartName="/ppt/media/image16.wmf" ContentType="image/x-wmf"/>
  <Override PartName="/ppt/media/image5.gif" ContentType="image/gif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0013-5EAB-493B-B1CA-6F108FB829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C423-9CDD-443E-AD35-E62C7D03DB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6E15-1EC6-461F-B963-46ED565858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ED71-D3DA-4A14-B50F-1E75191717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DE86-DFCA-4B90-8221-C0687C9ECA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1C0F-9602-43B9-A20B-0EBB10670E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06C1-399B-4A01-89BC-83E5B44905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CAAC-B6EC-40B2-9D1A-AA78A1149E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A0D4-0F41-4E2A-B754-474327F8E7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E538-4C3C-4723-94E7-1E4572B384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FAAC-B53F-4A62-A068-AA20910485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0AE3-23C5-4652-AA23-1A72B834B8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E9C9-4EFF-4E94-B691-EB4E0B2C38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0647-1F44-482F-97AD-926BF03FB0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8C94-E43D-45D2-92CF-165AD5635C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EB4F-72A9-4008-A6A1-EB48E325FC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5278-C76A-4298-B0CE-BD2D1B8BB1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81E9-9CBB-41B4-A46D-DD4AADECE5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040F-66C3-467B-8F93-7B6929F61C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7D1-3864-42C2-B2A1-0B2C783A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A57-6A2E-4F2C-BEF0-5098A4C7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9C3-DA51-474A-8574-5C9E98C9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1F8-322E-43A2-9BCE-1556323C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67E-160D-4164-9000-BA3F8538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856-3599-479B-91B6-97B85164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F8D-791E-4109-8051-74C7EAFC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3F2-D617-4F8C-B1AF-E5DAFE7F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EBB-2501-4107-A823-A906F8B0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9C6-1F5D-4E11-A9DF-425576A0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AF6-92E2-4CF4-9A65-453A3AFD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C91-0F64-41FA-A425-62A1A515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C115-A5D4-497B-81FA-8561D32941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SO02952_"/>
          <p:cNvPicPr/>
          <p:nvPr/>
        </p:nvPicPr>
        <p:blipFill>
          <a:blip r:embed="rId1"/>
          <a:stretch/>
        </p:blipFill>
        <p:spPr>
          <a:xfrm>
            <a:off x="3200400" y="533520"/>
            <a:ext cx="281952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Line 3"/>
          <p:cNvSpPr/>
          <p:nvPr/>
        </p:nvSpPr>
        <p:spPr>
          <a:xfrm flipH="1">
            <a:off x="2286000" y="762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"/>
          <p:cNvSpPr/>
          <p:nvPr/>
        </p:nvSpPr>
        <p:spPr>
          <a:xfrm flipH="1">
            <a:off x="2361960" y="1676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 flipH="1">
            <a:off x="1980720" y="190512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 flipV="1">
            <a:off x="5486400" y="12193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 flipV="1">
            <a:off x="5867280" y="20570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 flipH="1">
            <a:off x="2361960" y="419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2133720" y="4800600"/>
            <a:ext cx="1676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 flipV="1">
            <a:off x="4724280" y="533376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33520" y="7542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685800" y="906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838080" y="105876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1219320" y="533520"/>
            <a:ext cx="1218960" cy="459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a tê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609480" y="2133720"/>
            <a:ext cx="1524240" cy="459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’épa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066680" y="3962520"/>
            <a:ext cx="1447920" cy="459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a jam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762120" y="4876920"/>
            <a:ext cx="16002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e gen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5791320" y="5181480"/>
            <a:ext cx="121896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e 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5638680" y="3124080"/>
            <a:ext cx="152424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e do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6553080" y="1828800"/>
            <a:ext cx="1219320" cy="82548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a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6477120" y="990720"/>
            <a:ext cx="121896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e 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295280" y="1371600"/>
            <a:ext cx="121932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e c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3"/>
          <p:cNvSpPr/>
          <p:nvPr/>
        </p:nvSpPr>
        <p:spPr>
          <a:xfrm>
            <a:off x="579132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304920" y="60199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5" descr="j0095713"/>
          <p:cNvPicPr/>
          <p:nvPr/>
        </p:nvPicPr>
        <p:blipFill>
          <a:blip r:embed="rId2"/>
          <a:stretch/>
        </p:blipFill>
        <p:spPr>
          <a:xfrm>
            <a:off x="304920" y="5715000"/>
            <a:ext cx="377640" cy="7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j0095694"/>
          <p:cNvPicPr/>
          <p:nvPr/>
        </p:nvPicPr>
        <p:blipFill>
          <a:blip r:embed="rId3"/>
          <a:stretch/>
        </p:blipFill>
        <p:spPr>
          <a:xfrm>
            <a:off x="685800" y="6019920"/>
            <a:ext cx="365040" cy="399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7" descr="j0095686"/>
          <p:cNvPicPr/>
          <p:nvPr/>
        </p:nvPicPr>
        <p:blipFill>
          <a:blip r:embed="rId4"/>
          <a:stretch/>
        </p:blipFill>
        <p:spPr>
          <a:xfrm>
            <a:off x="1447920" y="6019920"/>
            <a:ext cx="42228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8" descr="j0095719"/>
          <p:cNvPicPr/>
          <p:nvPr/>
        </p:nvPicPr>
        <p:blipFill>
          <a:blip r:embed="rId5"/>
          <a:stretch/>
        </p:blipFill>
        <p:spPr>
          <a:xfrm>
            <a:off x="1905120" y="60199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9" descr="j0095734"/>
          <p:cNvPicPr/>
          <p:nvPr/>
        </p:nvPicPr>
        <p:blipFill>
          <a:blip r:embed="rId6"/>
          <a:stretch/>
        </p:blipFill>
        <p:spPr>
          <a:xfrm>
            <a:off x="2362320" y="6019920"/>
            <a:ext cx="446040" cy="380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0" descr="j0095728"/>
          <p:cNvPicPr/>
          <p:nvPr/>
        </p:nvPicPr>
        <p:blipFill>
          <a:blip r:embed="rId7"/>
          <a:stretch/>
        </p:blipFill>
        <p:spPr>
          <a:xfrm>
            <a:off x="2819520" y="6019920"/>
            <a:ext cx="457200" cy="479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1" descr="j0095745"/>
          <p:cNvPicPr/>
          <p:nvPr/>
        </p:nvPicPr>
        <p:blipFill>
          <a:blip r:embed="rId8"/>
          <a:stretch/>
        </p:blipFill>
        <p:spPr>
          <a:xfrm>
            <a:off x="3276720" y="5943600"/>
            <a:ext cx="377640" cy="434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2"/>
          <p:cNvSpPr/>
          <p:nvPr/>
        </p:nvSpPr>
        <p:spPr>
          <a:xfrm>
            <a:off x="304920" y="58672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3" descr="BD15350_"/>
          <p:cNvPicPr/>
          <p:nvPr/>
        </p:nvPicPr>
        <p:blipFill>
          <a:blip r:embed="rId9"/>
          <a:stretch/>
        </p:blipFill>
        <p:spPr>
          <a:xfrm>
            <a:off x="4038480" y="19051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80" name="Line 34"/>
          <p:cNvSpPr/>
          <p:nvPr/>
        </p:nvSpPr>
        <p:spPr>
          <a:xfrm flipH="1">
            <a:off x="2209680" y="2209680"/>
            <a:ext cx="1905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5"/>
          <p:cNvSpPr/>
          <p:nvPr/>
        </p:nvSpPr>
        <p:spPr>
          <a:xfrm>
            <a:off x="838080" y="2971800"/>
            <a:ext cx="144792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e co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38"/>
          <p:cNvSpPr/>
          <p:nvPr/>
        </p:nvSpPr>
        <p:spPr>
          <a:xfrm>
            <a:off x="7143840" y="4143240"/>
            <a:ext cx="185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voir ma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u (mas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à la (f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ux (pl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à l’ (vow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25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26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27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28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29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30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31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232" name="Picture 27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8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9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0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1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2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3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4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5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6"/>
          <p:cNvSpPr/>
          <p:nvPr/>
        </p:nvSpPr>
        <p:spPr>
          <a:xfrm>
            <a:off x="2700360" y="5229360"/>
            <a:ext cx="32418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’ai une gri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WordArt 23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4" name="WordArt 24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5" name="WordArt 25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6" name="WordArt 26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7" name="WordArt 27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8" name="WordArt 28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9" name="WordArt 29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0" name="WordArt 30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1" name="WordArt 37"/>
          <p:cNvSpPr txBox="1"/>
          <p:nvPr/>
        </p:nvSpPr>
        <p:spPr>
          <a:xfrm>
            <a:off x="395280" y="5445000"/>
            <a:ext cx="8353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2" name="Picture 38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1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2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3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4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5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6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7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9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5"/>
          <p:cNvSpPr/>
          <p:nvPr/>
        </p:nvSpPr>
        <p:spPr>
          <a:xfrm>
            <a:off x="1403280" y="981000"/>
            <a:ext cx="6193080" cy="490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’ai un rh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’ai une grip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’ai été piqué par une abe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e me suis b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ûlé(e) le/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Je me suis cassé(e) le/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J’ai envie de vom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Je me suis fait mal à la/au/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J’ai un coup de sol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j0136749"/>
          <p:cNvPicPr/>
          <p:nvPr/>
        </p:nvPicPr>
        <p:blipFill>
          <a:blip r:embed="rId1"/>
          <a:stretch/>
        </p:blipFill>
        <p:spPr>
          <a:xfrm>
            <a:off x="4932360" y="0"/>
            <a:ext cx="3897360" cy="683244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6"/>
          <p:cNvSpPr/>
          <p:nvPr/>
        </p:nvSpPr>
        <p:spPr>
          <a:xfrm>
            <a:off x="0" y="333360"/>
            <a:ext cx="5435640" cy="6192720"/>
          </a:xfrm>
          <a:prstGeom prst="wedgeEllipseCallout">
            <a:avLst>
              <a:gd name="adj1" fmla="val 57273"/>
              <a:gd name="adj2" fmla="val -242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Un homme typiqu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l a un rhume mais il dit qu’il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a ma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a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ê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été piqué par une abe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la const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mal au ven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j0136749"/>
          <p:cNvPicPr/>
          <p:nvPr/>
        </p:nvPicPr>
        <p:blipFill>
          <a:blip r:embed="rId1"/>
          <a:stretch/>
        </p:blipFill>
        <p:spPr>
          <a:xfrm>
            <a:off x="4932360" y="0"/>
            <a:ext cx="3897360" cy="68324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971640" y="1268280"/>
            <a:ext cx="3671640" cy="303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rold a décidé d’aller voir le médecin parce qu’il est vraiment mal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l doit téléphon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cabinet médicale pour prendre un rendez-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hone3"/>
          <p:cNvSpPr/>
          <p:nvPr/>
        </p:nvSpPr>
        <p:spPr>
          <a:xfrm>
            <a:off x="2700360" y="3141720"/>
            <a:ext cx="1728720" cy="1728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24000" y="333360"/>
            <a:ext cx="792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 les questions que la réceptioniste a posés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6"/>
          <p:cNvSpPr/>
          <p:nvPr/>
        </p:nvSpPr>
        <p:spPr>
          <a:xfrm>
            <a:off x="611280" y="907920"/>
            <a:ext cx="2376360" cy="2305080"/>
          </a:xfrm>
          <a:prstGeom prst="wedgeEllipseCallout">
            <a:avLst>
              <a:gd name="adj1" fmla="val 53805"/>
              <a:gd name="adj2" fmla="val 262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tre nom? Comment ca s’écr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924360" y="981000"/>
            <a:ext cx="4032360" cy="1584360"/>
          </a:xfrm>
          <a:prstGeom prst="wedgeEllipseCallout">
            <a:avLst>
              <a:gd name="adj1" fmla="val -63935"/>
              <a:gd name="adj2" fmla="val 731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elle est votre date de naiss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6443640" y="4797360"/>
            <a:ext cx="2087640" cy="1871640"/>
          </a:xfrm>
          <a:prstGeom prst="wedgeEllipseCallout">
            <a:avLst>
              <a:gd name="adj1" fmla="val -139351"/>
              <a:gd name="adj2" fmla="val -764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’est-ce qui ne va p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3059280" y="5157720"/>
            <a:ext cx="2087280" cy="1224000"/>
          </a:xfrm>
          <a:prstGeom prst="wedgeEllipseCallout">
            <a:avLst>
              <a:gd name="adj1" fmla="val -61180"/>
              <a:gd name="adj2" fmla="val -558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puis qu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10"/>
          <p:cNvSpPr/>
          <p:nvPr/>
        </p:nvSpPr>
        <p:spPr>
          <a:xfrm>
            <a:off x="5219640" y="2925720"/>
            <a:ext cx="2521080" cy="1224000"/>
          </a:xfrm>
          <a:prstGeom prst="wedgeEllipseCallout">
            <a:avLst>
              <a:gd name="adj1" fmla="val -73046"/>
              <a:gd name="adj2" fmla="val 223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tre adres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11"/>
          <p:cNvSpPr/>
          <p:nvPr/>
        </p:nvSpPr>
        <p:spPr>
          <a:xfrm>
            <a:off x="36360" y="3357720"/>
            <a:ext cx="2087640" cy="3500280"/>
          </a:xfrm>
          <a:prstGeom prst="wedgeEllipseCallout">
            <a:avLst>
              <a:gd name="adj1" fmla="val 73268"/>
              <a:gd name="adj2" fmla="val -198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’ai fixé un rendez-vous pour jeudi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à 9 he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76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77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78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79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80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81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82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83" name="WordArt 27"/>
          <p:cNvSpPr txBox="1"/>
          <p:nvPr/>
        </p:nvSpPr>
        <p:spPr>
          <a:xfrm>
            <a:off x="395280" y="5445000"/>
            <a:ext cx="8353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Picture 28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9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0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1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2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3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4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5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6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152280" y="44280"/>
          <a:ext cx="4267440" cy="6755040"/>
        </p:xfrm>
        <a:graphic>
          <a:graphicData uri="http://schemas.openxmlformats.org/drawingml/2006/table">
            <a:tbl>
              <a:tblPr/>
              <a:tblGrid>
                <a:gridCol w="2210040"/>
                <a:gridCol w="205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 m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/à la/aux/à l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dre un rendez-v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avez quelque chose contre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rhume/une grip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 piq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û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 comprim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 mal au co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suis b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ûlé(e) le/la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suis cassé le/la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ne me sens pas b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est-ce qui ne va pa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 devrais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 ordonn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faire vacci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uis qua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 s’est passé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697280" y="44280"/>
          <a:ext cx="4267440" cy="6755040"/>
        </p:xfrm>
        <a:graphic>
          <a:graphicData uri="http://schemas.openxmlformats.org/drawingml/2006/table">
            <a:tbl>
              <a:tblPr/>
              <a:tblGrid>
                <a:gridCol w="2210040"/>
                <a:gridCol w="205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 m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dre un rendez-v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avez quelque chose contre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rhume/une grip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 piq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û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 comprim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 mal au co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suis b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ûlé(e) le/la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suis cassé le/la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ne me sens pas b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est-ce qui ne va pa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 devrais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 ordonn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faire vacci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uis qua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 s’est passé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j0136749"/>
          <p:cNvPicPr/>
          <p:nvPr/>
        </p:nvPicPr>
        <p:blipFill>
          <a:blip r:embed="rId1"/>
          <a:stretch/>
        </p:blipFill>
        <p:spPr>
          <a:xfrm>
            <a:off x="4932360" y="0"/>
            <a:ext cx="3897360" cy="683244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3"/>
          <p:cNvSpPr/>
          <p:nvPr/>
        </p:nvSpPr>
        <p:spPr>
          <a:xfrm>
            <a:off x="0" y="333360"/>
            <a:ext cx="5435640" cy="6192720"/>
          </a:xfrm>
          <a:prstGeom prst="wedgeEllipseCallout">
            <a:avLst>
              <a:gd name="adj1" fmla="val 57273"/>
              <a:gd name="adj2" fmla="val -242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7"/>
          <p:cNvSpPr txBox="1"/>
          <p:nvPr/>
        </p:nvSpPr>
        <p:spPr>
          <a:xfrm>
            <a:off x="395280" y="5445000"/>
            <a:ext cx="8353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WordArt 38"/>
          <p:cNvSpPr txBox="1"/>
          <p:nvPr/>
        </p:nvSpPr>
        <p:spPr>
          <a:xfrm>
            <a:off x="324000" y="4581360"/>
            <a:ext cx="8353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39"/>
          <p:cNvSpPr txBox="1"/>
          <p:nvPr/>
        </p:nvSpPr>
        <p:spPr>
          <a:xfrm>
            <a:off x="395280" y="3645000"/>
            <a:ext cx="835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WordArt 40"/>
          <p:cNvSpPr txBox="1"/>
          <p:nvPr/>
        </p:nvSpPr>
        <p:spPr>
          <a:xfrm>
            <a:off x="395280" y="2709720"/>
            <a:ext cx="8353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WordArt 41"/>
          <p:cNvSpPr txBox="1"/>
          <p:nvPr/>
        </p:nvSpPr>
        <p:spPr>
          <a:xfrm>
            <a:off x="395280" y="1916280"/>
            <a:ext cx="835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WordArt 42"/>
          <p:cNvSpPr txBox="1"/>
          <p:nvPr/>
        </p:nvSpPr>
        <p:spPr>
          <a:xfrm>
            <a:off x="395280" y="1052640"/>
            <a:ext cx="835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WordArt 43"/>
          <p:cNvSpPr txBox="1"/>
          <p:nvPr/>
        </p:nvSpPr>
        <p:spPr>
          <a:xfrm>
            <a:off x="395280" y="189000"/>
            <a:ext cx="835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2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3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7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8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99" name="Picture 28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0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1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2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3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4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5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6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7"/>
          <p:cNvSpPr/>
          <p:nvPr/>
        </p:nvSpPr>
        <p:spPr>
          <a:xfrm>
            <a:off x="2050920" y="5229360"/>
            <a:ext cx="4608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’ai un coup de sole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2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3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7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18" name="Picture 27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8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9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0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1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2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3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4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5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6"/>
          <p:cNvSpPr/>
          <p:nvPr/>
        </p:nvSpPr>
        <p:spPr>
          <a:xfrm>
            <a:off x="1476360" y="5229360"/>
            <a:ext cx="5977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e me suis b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ûle(e) la 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0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1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2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3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4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5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6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37" name="Picture 27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8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9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0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1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2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3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4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5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6"/>
          <p:cNvSpPr/>
          <p:nvPr/>
        </p:nvSpPr>
        <p:spPr>
          <a:xfrm>
            <a:off x="2050920" y="5229360"/>
            <a:ext cx="4608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’ai envie de vom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9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50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51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52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53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54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55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56" name="Picture 27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0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1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2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4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5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6"/>
          <p:cNvSpPr/>
          <p:nvPr/>
        </p:nvSpPr>
        <p:spPr>
          <a:xfrm>
            <a:off x="1116000" y="5229360"/>
            <a:ext cx="65516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’ai été piqué par une abe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68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69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70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71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72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73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74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75" name="Picture 27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8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9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0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1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2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3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4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5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6"/>
          <p:cNvSpPr/>
          <p:nvPr/>
        </p:nvSpPr>
        <p:spPr>
          <a:xfrm>
            <a:off x="1042920" y="5229360"/>
            <a:ext cx="6624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e me suis fait mal au doig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87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88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89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90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91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92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93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94" name="Picture 27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8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9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0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1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2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4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5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6"/>
          <p:cNvSpPr/>
          <p:nvPr/>
        </p:nvSpPr>
        <p:spPr>
          <a:xfrm>
            <a:off x="1332000" y="5229360"/>
            <a:ext cx="6192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e me suis cassé(e) la jam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06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07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08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09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10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11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12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213" name="Picture 27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8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9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0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1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2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3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4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5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6"/>
          <p:cNvSpPr/>
          <p:nvPr/>
        </p:nvSpPr>
        <p:spPr>
          <a:xfrm>
            <a:off x="3059280" y="5300640"/>
            <a:ext cx="3097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’ai un rh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5:45:05Z</dcterms:created>
  <dc:creator>mwalker</dc:creator>
  <dc:description/>
  <dc:language>en-US</dc:language>
  <cp:lastModifiedBy>scollett</cp:lastModifiedBy>
  <dcterms:modified xsi:type="dcterms:W3CDTF">2010-08-06T01:19:17Z</dcterms:modified>
  <cp:revision>10</cp:revision>
  <dc:subject/>
  <dc:title>PowerPoint Presentation</dc:title>
</cp:coreProperties>
</file>